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744C-4654-4437-AB16-EB997CCFC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1810-0426-4566-80DA-6F80253C2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C8BC-A105-4EA7-B279-64E7CB63E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375E-A6C2-4A60-94B8-72000D456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8E14-801C-4AD3-9793-6785406A0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BFAC-9512-4DA1-8895-EF2A624DC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DA83-5C2E-4A4E-BFBB-458535BB1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127D-88E7-44F8-87FB-A48E3F6B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8A9B-E994-4B6F-A0C7-AB93DFC3C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964F-55AF-4B2B-A1C0-DCC57CADE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6017-5C73-4571-A638-A628C8CDA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F374-A7FD-49F1-9BF5-C5F3074CE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0339-4A90-4519-B836-205DEAD76F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D6B2-49EF-488B-86A3-D85845E6D1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1E93-C242-48AC-887B-C69977F22F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F94F-8710-4E18-8CF7-788FED69A4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4240-9C9D-4CCC-A85A-073236E84E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F681-A937-464E-B328-7E333690BC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31BC-1C97-48F9-88BA-AAF2D9ACE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595C-BE93-4CED-88E9-02101AE468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70AC-3FF6-49B1-B3D0-AEF75F7B6E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953-C079-43BC-B73B-0E75D20F35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9114-9554-4D04-BDCC-3B4555511F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69C9-D900-4FE2-AFFA-BD7BB2B26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3442-1D2D-4A8D-9A5B-4D4206F719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A30-B4D7-473A-8015-62739FC62E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50F3-4878-40BC-9C85-7A2AD665C5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AC39-4184-49EE-9DF3-606DD7E48C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F678-D8AF-4DE2-AEA2-31F9ACBF5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F132-2D33-4EC2-8C90-319B72DF11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EE3-E05D-4FDC-94DF-92DF46B8F5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21C-B345-4029-9BBF-3B55926874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1E0C-32CA-4ACF-8A31-B8111F6A82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2B17-A49E-46C1-B47A-FD830B4A24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B5A4-E808-4353-9ACB-A024610ABA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FB47-9B29-49C2-B2DC-0AF5306F5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09:50Z</dcterms:modified>
  <cp:revision>29</cp:revision>
  <dc:subject/>
  <dc:title>&lt;Title&gt;</dc:title>
</cp:coreProperties>
</file>